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A1B8-F2E9-40F3-9672-E39135F9A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C452-9F0B-40C5-9FE5-19229754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98F2-AC62-41FC-9E60-846971EE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ADC6-F219-426E-911D-A8E644576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EE39-9EC8-4987-A304-30823B62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F3C9-1BF4-4831-BBB0-1EAF8EE9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E030-B4D8-4B39-96BF-F789ED0A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DC4A-2DC5-413B-8F36-547252D4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9FE6-81BA-4F9D-9EB5-2DB06C40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7D08-C2B9-4DD5-9D7D-4FF72766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5166-C374-4C45-A63C-E9A5CCDD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DAA0-A509-44A0-B684-322352F5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C683-8B81-47D9-84C6-5853D4048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3574003fYJtJwiCSu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2840" y="152280"/>
            <a:ext cx="851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الي سواك ياسيد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ياتي رضاك يا سيدي أنت مُتّكَلي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ُطَمئِنُ نفس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3574003fYJtJwiCSu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533600" y="304920"/>
            <a:ext cx="1220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لوٌ ما أشهاك يا سيد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فس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 لا تسلاك يا سيد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ُفرِّح قلب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أنَرتَ لي در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3574003fYJtJwiCSu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3618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ينما ألقاك يا سيدي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ذبٌ ما أحلاك يا سيدي        تُبَدِّدُ همّ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ُفَرِّجُ ع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3574003fYJtJwiCSu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3618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وسط الأشواك يا سي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د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عينيَّ تراك يا سيدي تُضَمِّدُ جُرح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ُجدِّدُ فَرَح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3574003fYJtJwiCSu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3618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فسي في حماك يا سيد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عيني لعُلاك يا سيد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قوَّتي حبَّك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صخرتي وعد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2-10-30T16:42:37Z</dcterms:modified>
  <cp:revision>9</cp:revision>
  <dc:subject/>
  <dc:title>PowerPoint Presentation</dc:title>
</cp:coreProperties>
</file>